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7421-8706-4397-B9AD-6C2E11E74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6BE6-ACDC-485D-8A83-B6694FC70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4AC6-972C-4913-8E5C-FB083E01F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571A-2CBB-40E2-9A6B-130D1103EB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862F-25AB-40DF-A2DC-21A2DEDD3E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E37E-F294-41AB-8BC3-82F906214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6DE3-B891-49D0-940D-5712205A0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27C5-DAA6-4E53-9076-232689715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5120" y="27432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31E1-F1F9-4B86-998A-23D08F779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DB8B-2E00-4687-8F3C-99B4B23F8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1418-9E8A-4781-9425-882776F3C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640C-50D1-4EEB-8D2B-11F6FF6EC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amahi-logo"/>
          <p:cNvPicPr/>
          <p:nvPr/>
        </p:nvPicPr>
        <p:blipFill>
          <a:blip r:embed="rId2"/>
          <a:stretch/>
        </p:blipFill>
        <p:spPr>
          <a:xfrm>
            <a:off x="254160" y="146160"/>
            <a:ext cx="2539800" cy="793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9513-A4D9-4576-9DB5-6B414EB44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hi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387360" y="6172200"/>
            <a:ext cx="8361360" cy="152280"/>
          </a:xfrm>
          <a:prstGeom prst="rect">
            <a:avLst/>
          </a:prstGeom>
          <a:solidFill>
            <a:srgbClr val="969ea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menu-sub-bg"/>
          <p:cNvPicPr/>
          <p:nvPr/>
        </p:nvPicPr>
        <p:blipFill>
          <a:blip r:embed="rId3"/>
          <a:stretch/>
        </p:blipFill>
        <p:spPr>
          <a:xfrm>
            <a:off x="380880" y="914400"/>
            <a:ext cx="8382240" cy="152280"/>
          </a:xfrm>
          <a:prstGeom prst="rect">
            <a:avLst/>
          </a:prstGeom>
          <a:ln w="0">
            <a:noFill/>
          </a:ln>
        </p:spPr>
      </p:pic>
      <p:sp>
        <p:nvSpPr>
          <p:cNvPr id="7" name="AutoShape 15"/>
          <p:cNvSpPr/>
          <p:nvPr/>
        </p:nvSpPr>
        <p:spPr>
          <a:xfrm>
            <a:off x="380880" y="895320"/>
            <a:ext cx="8382240" cy="5429160"/>
          </a:xfrm>
          <a:prstGeom prst="roundRect">
            <a:avLst>
              <a:gd name="adj" fmla="val 625"/>
            </a:avLst>
          </a:prstGeom>
          <a:noFill/>
          <a:ln w="31680">
            <a:solidFill>
              <a:srgbClr val="dfd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iki.amahi.org/index.php/Contributor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orums.amahi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etup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ppermin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iki.amahi.org/index.php/Application_Packagin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427F-BA57-402B-BAF1-D9FA2060A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87480" y="225000"/>
            <a:ext cx="60040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 On Packaging App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Click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843120" y="1227240"/>
            <a:ext cx="75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tutorial describing how to package application for one-click installation on Amahi. The basic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5960" y="2238480"/>
            <a:ext cx="2533680" cy="8096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3" y="0"/>
                </a:lnTo>
                <a:lnTo>
                  <a:pt x="21600" y="10800"/>
                </a:lnTo>
                <a:lnTo>
                  <a:pt x="19923" y="21600"/>
                </a:lnTo>
                <a:lnTo>
                  <a:pt x="0" y="21600"/>
                </a:lnTo>
                <a:lnTo>
                  <a:pt x="1677" y="10800"/>
                </a:lnTo>
                <a:close/>
              </a:path>
            </a:pathLst>
          </a:custGeom>
          <a:solidFill>
            <a:srgbClr val="dfd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33600" y="2238480"/>
            <a:ext cx="2533680" cy="8096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3" y="0"/>
                </a:lnTo>
                <a:lnTo>
                  <a:pt x="21600" y="10800"/>
                </a:lnTo>
                <a:lnTo>
                  <a:pt x="19923" y="21600"/>
                </a:lnTo>
                <a:lnTo>
                  <a:pt x="0" y="21600"/>
                </a:lnTo>
                <a:lnTo>
                  <a:pt x="1677" y="10800"/>
                </a:lnTo>
                <a:close/>
              </a:path>
            </a:pathLst>
          </a:custGeom>
          <a:solidFill>
            <a:srgbClr val="dfd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“Changes” to Auto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2238480"/>
            <a:ext cx="2533680" cy="8096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3" y="0"/>
                </a:lnTo>
                <a:lnTo>
                  <a:pt x="21600" y="10800"/>
                </a:lnTo>
                <a:lnTo>
                  <a:pt x="19923" y="21600"/>
                </a:lnTo>
                <a:lnTo>
                  <a:pt x="0" y="21600"/>
                </a:lnTo>
                <a:lnTo>
                  <a:pt x="1677" y="10800"/>
                </a:lnTo>
                <a:close/>
              </a:path>
            </a:pathLst>
          </a:custGeom>
          <a:solidFill>
            <a:srgbClr val="dfd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“one-clic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47800" y="3133800"/>
            <a:ext cx="23526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Web App Directory using the Amahi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he install package from the origina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installation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4240" y="3133800"/>
            <a:ext cx="23526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13040" indent="-113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PMs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 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out the steps to create th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‘scripts’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00680" y="3133800"/>
            <a:ext cx="23526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Web App Directory using the Amahi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he install package from the origina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installation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3480" y="2209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1812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1812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7240" y="6370560"/>
            <a:ext cx="76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Refer to wiki for details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amahi.org/index.php/Contributo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2161800"/>
            <a:ext cx="84106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ou get stuck, don’t hesitat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by the IRC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questio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orums.amahi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(a) Manually Install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to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Web App tab (‘soon’ to be a sub-menu in the Applications ta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new Web App ‘coppermine’, this creates the direc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var/hda/web-apps/coppermine/htm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your H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command prompt in the director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var/hda/web-apps/copperm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he installation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get http://superb-west.dl.sourceforge.net/sourceforge/coppermine/cpg1.4.21.tar.bz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zip/Untar th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r –xvf cpg1.4.21.tar.bz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contents of the unzipped web app folder into the html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p –rf cpg14x/* 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843120" y="1217520"/>
            <a:ext cx="75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s tutorial will use the application “Coppermine Gallery” as an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(b) Manually Install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o launch the Application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pperm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on’t work and will redirect you to complete the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 the instructions to complete the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the one-click installer normally runs as the apache user, so changing the permissions will not be required in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he database for use by coppermine using 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da-create-db-and-user copperm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reates a database with user and password named copperm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, there is an RPM required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um instal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Mag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now ready to find the files/database create/edited by the install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843120" y="1360440"/>
            <a:ext cx="75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lete the instal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572000"/>
            <a:ext cx="1047600" cy="457200"/>
          </a:xfrm>
          <a:prstGeom prst="downArrow">
            <a:avLst>
              <a:gd name="adj1" fmla="val 50000"/>
              <a:gd name="adj2" fmla="val 5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a) Specify Changes to Aut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to see what installation files have changed. The “brute force method” is to take a “difference” of the original unzipped directory and the installed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ff –r –N –U3 /var/hda/web-apps/coppermine/cpg14x /var/hda/web-apps/coppermine/html &gt; diff.install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view the created text fi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ff.install.tx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you can see the files 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lude/config.inc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lude/install.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is file you will create part of the install script (each diff command can be used to apply the changes to the original file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843120" y="1360440"/>
            <a:ext cx="75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ek out and understand the changes performed by the instal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b) Specify Changes to Aut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the database creation script in the install directory. You will find three .sql script fi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169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.Sql, basic.sql, update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 inspection the first two have to be run to create the data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ing with these shows they are NOT complete enough to build the installed database – we will use another method to do this. From the command line dump the data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ysqldump –-add-drop-table –u coppermine –pcoppermine coppermine &gt;db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unfortunately this makes a file too big to be in the install scri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 the dump with the schema.sql file, a smaller install script for the database can be created – (see next page for the MySQL script!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43120" y="1360440"/>
            <a:ext cx="75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e how the database was crea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upplemental Install Script for D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6280" y="2013120"/>
            <a:ext cx="81151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@scc     = @@character_set_clien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utf8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bridge` VALUES ('short_name',''),('license_number',''),('db_database_name',''),('db_hostname',''),('db_username',''),('db_password',''),('full_forum_url',''),('relative_path_of_forum_from_webroot',''),('relative_path_to_config_file',''),('logout_flag',''),('use_post_based_groups',''),('cookie_prefix',''),('table_prefix',''),('user_table',''),('session_table',''),('group_table',''),('group_relation_table',''),('group_mapping_table',''),('use_standard_groups','1'),('validating_group',''),('guest_group',''),('member_group',''),('admin_group',''),('banned_group',''),('global_moderators_group',''),('recovery_logon_failures','0'),('recovery_logon_timestamp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categories` VALUES (1,0,'User galleries','This category contains albums that belong to Coppermine users.',0,0,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config` VALUES ('albums_per_page','12'),('album_list_cols','2'),('display_pic_info','0'),('alb_list_thumb_size','50'),('allowed_mov_types','ALL'),('allowed_doc_types','doc/txt/rtf/pdf/xls/pps/ppt/zip/gz/mdb'),('allowed_snd_types','mp3/midi/mid/wma/wav/ogg'),('allowed_img_types','ALL'),('allow_private_albums','1'),('allow_user_registration','0'),('allow_unlogged_access','1'),('allow_duplicate_emails_addr','0'),('caption_in_thumbview','1'),('views_in_thumbview','1'),('charset','utf-8'),('cookie_name','coppermine'),('cookie_path','/'),('debug_mode','0'),('debug_notice','0'),('default_dir_mode','0755'),('default_file_mode','0644'),('default_sort_order','na'),('ecards_more_pic_target','http://coppermine.sourceforge.net/'),('home_target','index.php'),('custom_lnk_name',''),('custom_lnk_url',''),('enable_smilies','1'),('filter_bad_words','0'),('forbiden_fname_char','$/\\\\:*?&amp;quot;\'&amp;lt;&amp;gt;|` &amp;amp;'),('fullpath','albums/'),('gallery_admin_email','you@somewhere.com'),('gallery_description','Your online photo album'),('gallery_name','Coppermine Photo Gallery'),('im_options','-antialias'),('impath',''),('jpeg_qual','80'),('keep_votes_time','30'),('lang','english'),('main_page_layout','breadcrumb/catlist/alblist/random,2/lastup,2'),('main_table_width','100%'),('make_intermediate','1'),('max_com_lines','10'),('max_com_size','512'),('max_com_wlength','38'),('max_img_desc_length','512'),('max_tabs','12'),('max_upl_size','1024'),('max_upl_width_height','2048'),('auto_resize','0'),('min_votes_for_rating','1'),('normal_pfx','normal_'),('offline','0'),('picture_table_width','600'),('picture_width','400'),('read_exif_data','0'),('reg_requires_valid_email','1'),('subcat_level','2'),('theme','core'),('thumbcols','4'),('thumbrows','3'),('thumb_method','im'),('thumb_pfx','thumb_'),('thumb_width','100'),('userpics','userpics/'),('vanity_block','1'),('user_profile1_name','Location'),('user_profile2_name','Interests'),('user_profile3_name','Website'),('user_profile4_name','Occupation'),('user_profile5_name',''),('user_profile6_name','Biography'),('user_field1_name',''),('user_field2_name',''),('user_field3_name',''),('user_field4_name',''),('display_comment_count','0'),('show_private','0'),('first_level','1'),('display_film_strip','1'),('display_film_strip_filename','0'),('max_film_strip_items','5'),('thumb_use','any'),('read_iptc_data','0'),('reg_notify_admin_email','0'),('disable_comment_flood_protect','0'),('upl_notify_admin_email','0'),('display_uploader','0'),('display_filename','0'),('language_list','0'),('language_flags','0'),('theme_list','0'),('language_reset','1'),('theme_reset','1'),('allow_memberlist','0'),('display_faq','0'),('show_bbcode_help','1'),('log_ecards','0'),('email_comment_notification','0'),('enable_zipdownload','1'),('slideshow_interval','5000'),('log_mode','0'),('media_autostart','1'),('enable_encrypted_passwords','1'),('time_offset','0'),('ban_private_ip','0'),('smtp_host',''),('smtp_username',''),('smtp_password',''),('enable_plugins','1'),('enable_help','2'),('categories_alpha_sort','0'),('login_threshold','5'),('login_expiry','10'),('allow_email_change','0'),('clickable_keyword_search','1'),('users_can_edit_pics','0'),('show_which_exif','|0|0|0|0|0|0|0|0|1|0|1|1|0|0|0|0|0|0|0|0|0|0|0|1|0|0|0|1|0|0|0|1|1|0|0|0|0|1|0|0|0|1|0|0|1|1|0|0|0|0|0|1|0|1|1'),('link_pic_count','0'),('bridge_enable','0'),('language_fallback','1'),('vote_details','0'),('hit_details','0'),('browse_batch_add','1'),('custom_header_path',''),('custom_footer_path',''),('comments_sort_descending','0'),('report_post','0'),('comments_anon_pfx','Guest_'),('admin_activation','0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filetypes` VALUES ('jpg','image/jpg','image',''),('jpeg','image/jpeg','image',''),('jpe','image/jpe','image',''),('gif','image/gif','image',''),('png','image/png','image',''),('bmp','image/bmp','image',''),('jpc','image/jpc','image',''),('jp2','image/jp2','image',''),('jpx','image/jpx','image',''),('jb2','image/jb2','image',''),('swc','image/swc','image',''),('iff','image/iff','image',''),('asf','video/x-ms-asf','movie','WMP'),('asx','video/x-ms-asx','movie','WMP'),('mpg','video/mpeg','movie','WMP'),('mpeg','video/mpeg','movie','WMP'),('wmv','video/x-ms-wmv','movie','WMP'),('swf','application/x-shockwave-flash','movie','SWF'),('avi','video/avi','movie','WMP'),('mov','video/quicktime','movie','QT'),('mp3','audio/mpeg3','audio','WMP'),('midi','audio/midi','audio','WMP'),('mid','audio/midi','audio','WMP'),('wma','audio/x-ms-wma','audio','WMP'),('wav','audio/wav','audio','WMP'),('ogg','audio/ogg','audio',''),('psd','image/psd','image',''),('ram','audio/x-pn-realaudio','document','RMP'),('ra','audio/x-realaudio','document','RMP'),('rm','audio/x-realmedia','document','RMP'),('tiff','image/tiff','document',''),('tif','image/tif','document',''),('doc','application/msword','document',''),('txt','text/plain','document',''),('rtf','text/richtext','document',''),('pdf','application/pdf','document',''),('xls','application/excel','document',''),('pps','application/powerpoint','document',''),('ppt','application/powerpoint','document',''),('zip','application/zip','document',''),('rar','application/rar','document',''),('gz','application/gz','document',''),('mdb','application/msaccess','document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usergroups` VALUES (1,'Administrators',0,1,1,1,1,1,1,0,0,3,0,5,3),(2,'Registered',1024,0,1,1,1,1,1,1,0,3,0,5,3),(3,'Anonymous',0,0,1,0,0,0,0,1,1,0,0,5,3),(4,'Banned',0,0,0,0,0,0,0,1,1,0,0,5,3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album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itl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description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isibility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ploads` enum('YES','NO') NOT NULL default 'NO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omments` enum('YES','NO') NOT NULL default 'YES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otes` enum('YES','NO') NOT NULL default 'YES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os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tegory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humb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keyword` varchar(50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lb_password` varchar(32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lb_password_hint` 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a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alb_category` (`category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album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banned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ban_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id` int(11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ip_addr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xpiry` datetime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brute_force` tinyint(5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ban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Data about banned user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bridge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ame` varchar(4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alu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name` (`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the bridging data, not used when unbridged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bridge` VALUES ('short_name',''),('license_number',''),('db_database_name',''),('db_hostname',''),('db_username',''),('db_password',''),('full_forum_url',''),('relative_path_of_forum_from_webroot',''),('relative_path_to_config_file',''),('logout_flag',''),('use_post_based_groups',''),('cookie_prefix',''),('table_prefix',''),('user_table',''),('session_table',''),('group_table',''),('group_relation_table',''),('group_mapping_table',''),('use_standard_groups','1'),('validating_group',''),('guest_group',''),('member_group',''),('admin_group',''),('banned_group',''),('global_moderators_group',''),('recovery_logon_failures','0'),('recovery_logon_timestamp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categorie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wner_id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am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description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os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arent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humb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c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cat_parent` (`parent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cat_pos` (`pos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cat_owner_id` (`owner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AUTO_INCREMENT=2 DEFAULT CHARSET=latin1 COMMENT='Used to store categorie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categories` VALUES (1,0,'User galleries','This category contains albums that belong to Coppermine users.',0,0,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comment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d` mediumint(1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id` mediumint(10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author` varchar(2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body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date` datetime NOT NULL default '0000-00-00 00:00:0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raw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hdr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uthor_md5_id` varchar(32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uthor_id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msg_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com_pic_id` (`p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comments made on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config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ame` varchar(4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alu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the configuration option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config` VALUES ('albums_per_page','12'),('album_list_cols','2'),('display_pic_info','0'),('alb_list_thumb_size','50'),('allowed_mov_types','ALL'),('allowed_doc_types','doc/txt/rtf/pdf/xls/pps/ppt/zip/gz/mdb'),('allowed_snd_types','mp3/midi/mid/wma/wav/ogg'),('allowed_img_types','ALL'),('allow_private_albums','1'),('allow_user_registration','0'),('allow_unlogged_access','1'),('allow_duplicate_emails_addr','0'),('caption_in_thumbview','1'),('views_in_thumbview','1'),('charset','utf-8'),('cookie_name','coppermine'),('cookie_path','/'),('debug_mode','0'),('debug_notice','0'),('default_dir_mode','0755'),('default_file_mode','0644'),('default_sort_order','na'),('ecards_more_pic_target','http://coppermine/'),('home_target','index.php'),('custom_lnk_name',''),('custom_lnk_url',''),('enable_smilies','1'),('filter_bad_words','0'),('forbiden_fname_char','$/\\\\:*?&amp;quot;\'&amp;lt;&amp;gt;|` &amp;amp;'),('fullpath','albums/'),('gallery_admin_email',''),('gallery_description','Your online photo album'),('gallery_name','Coppermine Photo Gallery'),('im_options','-antialias'),('impath','/usr/bin/'),('jpeg_qual','80'),('keep_votes_time','30'),('lang','english'),('main_page_layout','breadcrumb/catlist/alblist/random,2/lastup,2'),('main_table_width','100%'),('make_intermediate','1'),('max_com_lines','10'),('max_com_size','512'),('max_com_wlength','38'),('max_img_desc_length','512'),('max_tabs','12'),('max_upl_size','1024'),('max_upl_width_height','2048'),('auto_resize','0'),('min_votes_for_rating','1'),('normal_pfx','normal_'),('offline','0'),('picture_table_width','600'),('picture_width','400'),('read_exif_data','0'),('reg_requires_valid_email','1'),('subcat_level','2'),('theme','core'),('thumbcols','4'),('thumbrows','3'),('thumb_method','im'),('thumb_pfx','thumb_'),('thumb_width','100'),('userpics','userpics/'),('vanity_block','1'),('user_profile1_name','Location'),('user_profile2_name','Interests'),('user_profile3_name','Website'),('user_profile4_name','Occupation'),('user_profile5_name',''),('user_profile6_name','Biography'),('user_field1_name',''),('user_field2_name',''),('user_field3_name',''),('user_field4_name',''),('display_comment_count','0'),('show_private','0'),('first_level','1'),('display_film_strip','1'),('display_film_strip_filename','0'),('max_film_strip_items','5'),('thumb_use','any'),('read_iptc_data','0'),('reg_notify_admin_email','0'),('disable_comment_flood_protect','0'),('upl_notify_admin_email','0'),('display_uploader','0'),('display_filename','0'),('language_list','0'),('language_flags','0'),('theme_list','0'),('language_reset','1'),('theme_reset','1'),('allow_memberlist','0'),('display_faq','0'),('show_bbcode_help','1'),('log_ecards','0'),('email_comment_notification','0'),('enable_zipdownload','1'),('slideshow_interval','5000'),('log_mode','0'),('media_autostart','1'),('enable_encrypted_passwords','1'),('time_offset','0'),('ban_private_ip','0'),('smtp_host',''),('smtp_username',''),('smtp_password',''),('enable_plugins','1'),('enable_help','2'),('categories_alpha_sort','0'),('login_threshold','5'),('login_expiry','10'),('allow_email_change','0'),('clickable_keyword_search','1'),('users_can_edit_pics','0'),('show_which_exif','|0|0|0|0|0|0|0|0|1|0|1|1|0|0|0|0|0|0|0|0|0|0|0|1|0|0|0|1|0|0|0|1|1|0|0|0|0|1|0|0|0|1|0|0|1|1|0|0|0|0|0|1|0|1|1'),('link_pic_count','0'),('bridge_enable','0'),('language_fallback','1'),('vote_details','0'),('hit_details','0'),('browse_batch_add','1'),('custom_header_path',''),('custom_footer_path',''),('comments_sort_descending','0'),('report_post','0'),('comments_anon_pfx','Guest_'),('admin_activation','0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dict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keyId` bigint(20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keyword` varchar(6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key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Holds the keyword dictionary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ecard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nder_name` varchar(5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nder_email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cipient_name` varchar(5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cipient_email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link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date` tiny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nder_ip` tiny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e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log ecard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exif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filenam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xifData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filename` (`file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EXIF data from individual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favpic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id` int(11)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favpics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user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the server side favourite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filetype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xtension` char(7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ime` char(30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ontent` char(15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layer` varchar(5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extension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the file extension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filetypes` VALUES ('jpg','image/jpg','image',''),('jpeg','image/jpeg','image',''),('jpe','image/jpe','image',''),('gif','image/gif','image',''),('png','image/png','image',''),('bmp','image/bmp','image',''),('jpc','image/jpc','image',''),('jp2','image/jp2','image',''),('jpx','image/jpx','image',''),('jb2','image/jb2','image',''),('swc','image/swc','image',''),('iff','image/iff','image',''),('asf','video/x-ms-asf','movie','WMP'),('asx','video/x-ms-asx','movie','WMP'),('mpg','video/mpeg','movie','WMP'),('mpeg','video/mpeg','movie','WMP'),('wmv','video/x-ms-wmv','movie','WMP'),('swf','application/x-shockwave-flash','movie','SWF'),('avi','video/avi','movie','WMP'),('mov','video/quicktime','movie','QT'),('mp3','audio/mpeg3','audio','WMP'),('midi','audio/midi','audio','WMP'),('mid','audio/midi','audio','WMP'),('wma','audio/x-ms-wma','audio','WMP'),('wav','audio/wav','audio','WMP'),('ogg','audio/ogg','audio',''),('psd','image/psd','image',''),('ram','audio/x-pn-realaudio','document','RMP'),('ra','audio/x-realaudio','document','RMP'),('rm','audio/x-realmedia','document','RMP'),('tiff','image/tiff','document',''),('tif','image/tif','document',''),('doc','application/msword','document',''),('txt','text/plain','document',''),('rtf','text/richtext','document',''),('pdf','application/pdf','document',''),('xls','application/excel','document',''),('pps','application/powerpoint','document',''),('ppt','application/powerpoint','document',''),('zip','application/zip','document',''),('rar','application/rar','document',''),('gz','application/gz','document',''),('mdb','application/msaccess','document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hit_stat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d` varchar(10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ip` varchar(2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arch_phras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date` bigint(2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ferer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browser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s` varchar(5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s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Detailed stats about hits, only used when enabled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picture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id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filepath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filenam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filesize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otal_filesize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width` smallint(6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height` smallint(6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hits` int(1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time` datetime NOT NULL default '0000-00-00 00:00:0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time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wner_id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wner_name` varchar(4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c_rating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otes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itl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ption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keywords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pproved` enum('YES','NO') NOT NULL default 'NO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galleryicon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1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2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3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4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rl_prefix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c_raw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c_hdr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lasthit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osition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p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owner_id` (`owner_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pic_hits` (`hits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pic_rate` (`pic_rating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aid_approved` (`aid`,`approve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pic_aid` (`a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ULLTEXT KEY `search` (`title`,`caption`,`keywords`,`file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data about individual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plugin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lugin_id` int(10) unsigned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ame` varchar(64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ath` varchar(128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riority` int(10) unsigned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plugin_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name` (`name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path` (`path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the plugin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session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ssion_id` varchar(4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id` int(11)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ime` int(11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member` int(1)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session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session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sessions` VALUES ('9517276809000de5031787e9e3f3645d',1,1240951164,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temp_data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nique_ID` char(8)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ncoded_string` blob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imestamp` int(11) unsigned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unique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Holds temporary file data for multiple file upload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usergroup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group_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group_nam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group_quota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has_admin_acces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rate_picture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send_ecard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post_comment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upload_picture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create_album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ub_upl_need_approval` tinyint(4) NOT NULL default '1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riv_upl_need_approval` tinyint(4) NOT NULL default '1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pload_form_config` tinyint(4) NOT NULL default '3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ustom_user_upload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um_file_upload` tinyint(4) NOT NULL default '5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um_URI_upload` tinyint(4) NOT NULL default '3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group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AUTO_INCREMENT=5 DEFAULT CHARSET=latin1 COMMENT='Used to store user group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usergroups` VALUES (1,'Administrators',0,1,1,1,1,1,1,0,0,3,0,5,3),(2,'Registered',1024,0,1,1,1,1,1,1,0,3,0,5,3),(3,'Anonymous',0,0,1,0,0,0,0,1,1,0,0,5,3),(4,'Banned',0,0,0,0,0,0,0,1,1,0,0,5,3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user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group` int(11) NOT NULL default '2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active` enum('YES','NO') NOT NULL default 'NO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name` varchar(2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assword` varchar(4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lastvisit` datetime NOT NULL default '0000-00-00 00:00:0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regdate` datetime NOT NULL default '0000-00-00 00:00:0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group_list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email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1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2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3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4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5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6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actkey` varchar(32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user_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user_name` (`user_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AUTO_INCREMENT=2 DEFAULT CHARSET=latin1 COMMENT='Used to store users, not used when bridged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users` VALUES (1,1,'YES','admin','21232f297a57a5a743894a0e4a801fc3','2009-04-28 13:39:21','2009-04-28 13:39:17','','','','','','','','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vote_stat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d` varchar(10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ating` smallint(6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ip` varchar(2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date` bigint(2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ferer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browser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s` varchar(5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s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Detailed stats about votes, only used when enabled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vote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c_id` mediumint(9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md5_id` varchar(32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ote_time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pic_id`,`user_md5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votes for individual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3360" y="107784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Download the file to see the actual text (if you want all the detai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mplete One-Click Instal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 this is the order of the process the one-click installer do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nstall (if any) RPM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stall (if any) RPM packages (cross check SHA1SUM for down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reate the “Web App” for the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Download (if any) tar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ross check tarball SHA1SUM for validity of 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untar the tarball (assume the tarball untars into a single fol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rename the untarred folder ‘html’ in the install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843120" y="1246320"/>
            <a:ext cx="75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s information is provided as back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(a). Complete One-Click Instal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things” (beyond the obvious) to complete for this insta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M dependencies: ImageMag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script based on the diff file created, and the need to create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843120" y="1246320"/>
            <a:ext cx="75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tails on the Field to complete are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amahi.org/index.php/Application_Packag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61920" y="3714840"/>
            <a:ext cx="6915240" cy="231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tch –p0 –f –E &lt;&lt;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 /var/hda/web-apps/coppermine/cpg14x/include/config.inc.ph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969-12-31 16:00:00.000000000 -08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++ /var/hda/web-apps/coppermine/html/include/config.inc.ph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09-04-28 13:22:42.000000000 -07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@@ -0,0 +1,13 @@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&lt;?p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// Coppermine configuration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// MySQL 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dbserver'] =                         'localhost';        // Your database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dbuser'] =                         'coppermine';        // Your mysql user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dbpass'] =                         'coppermine';                // Your mysql pas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dbname'] =                         'coppermine';        // Your mysql database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// MySQL TABLE NAMES PREF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TABLE_PREFIX'] =                'cpg14x_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?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61920" y="3381480"/>
            <a:ext cx="6915240" cy="3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 for the config.inc.php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71160" y="2571840"/>
            <a:ext cx="84106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database for Copper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(b). Complete One-Click Instal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61920" y="1562040"/>
            <a:ext cx="6915240" cy="75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tch –p0 –f –E &lt;&lt;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@@ -0,0 +1 @@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loc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61920" y="1228680"/>
            <a:ext cx="6915240" cy="3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 for the install.lock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42840" y="3067200"/>
            <a:ext cx="6915240" cy="298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ysql –u coppermine –pcoppermine coppermine &lt; html/sql/schema.sq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ysql –u coppermine –pcoppermine coppermine &lt;&lt;'EOF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@scc     = @@character_set_clien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utf8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bridge` VALUES ('short_name',''),('license_number',''),('db_database_name',''),('db_hostname',''),('db_username',''),('db_password',''),('full_forum_url',''),('relative_path_of_forum_from_webroot',''),('relative_path_to_config_file',''),('logout_flag',''),('use_post_based_groups',''),('cookie_prefix',''),('table_prefix',''),('user_table',''),('session_table',''),('group_table',''),('group_relation_table',''),('group_mapping_table',''),('use_standard_groups','1'),('validating_group',''),('guest_group',''),('member_group',''),('admin_group',''),('banned_group',''),('global_moderators_group',''),('recovery_logon_failures','0'),('recovery_logon_timestamp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votes for individual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457880" y="4890960"/>
          <a:ext cx="914400" cy="7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7880" y="489096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486080" y="492444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content of this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0:24:46Z</dcterms:created>
  <dc:creator>GMW</dc:creator>
  <dc:description/>
  <dc:language>en-US</dc:language>
  <cp:lastModifiedBy>Gerald</cp:lastModifiedBy>
  <cp:lastPrinted>2008-09-26T02:01:20Z</cp:lastPrinted>
  <dcterms:modified xsi:type="dcterms:W3CDTF">2009-04-28T22:03:47Z</dcterms:modified>
  <cp:revision>41</cp:revision>
  <dc:subject/>
  <dc:title>Simplifying the Home Network</dc:title>
</cp:coreProperties>
</file>